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A53-B9FF-4F41-A324-2314E0B5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325-DC50-4D99-9FCA-0BF690B8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CF2-BC58-436A-BCA2-072F7537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8DD-4A73-4F14-AE40-ED4DDD9D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C376-2B4D-4236-8086-3D052DB6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1BA7-67EA-4D29-9BF7-2727E71D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D2EF-E3D7-4CA8-89A7-864D0D09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48BE-C86F-4826-802E-A5E8F657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675F-0316-4D9A-B8F3-1E266E3C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1A6E-992E-455E-8894-D9AC0D33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7F9A-5D97-4644-9F00-A1C709CB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6E4-5F93-4834-B48B-00D34653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7611-BFAA-4D3B-A168-20511C2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7D0-B77F-4965-BDB9-9FE8C3FC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953D-0D15-42DA-9034-0F4F012C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D08B-EEFB-4AEF-8A28-50EAEF03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E21-3080-4D0F-A6E3-76EFB675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504-27B2-48AD-B530-1D255507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6C0-58DA-4EC3-AC5D-F4393F9D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FE8-018D-4438-88FF-59DF561B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3B8-83EB-427A-85F0-B21B96C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F05-655B-4386-A937-300D1A3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F32-EDE1-4484-9EF0-F0848CD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462-3BE0-49A2-9A29-69A93E6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DB0A-81FF-45F6-BDAB-139D8ADF491C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CB9-7F25-4AC8-BD14-7C5A1F9E9552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SI</a:t>
            </a:r>
            <a:r>
              <a:rPr b="0" lang="lt-LT" sz="4200" spc="-1" strike="noStrike">
                <a:solidFill>
                  <a:srgbClr val="330033"/>
                </a:solidFill>
                <a:latin typeface="Times New Roman"/>
              </a:rPr>
              <a:t>CHOLOGIJOS ĮVAD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ok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593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54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404640"/>
            <a:ext cx="63468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hn Wats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Psichologija biheivioristo požiūriu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IVEIVIOR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raham Maslow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Motyvacija ir asmenybė”.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rl Roger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UMAN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ktor Frank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laikomas egzistencinės psichologijos pradini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ZISTENCI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raida Lietuvoje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6m. – VPU prad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ta ruošti psichologus (katedros vadovas A.Guč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m. – 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m. – specialiosios psichologijos laborator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m. – Lietuvos psicholo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 sąjung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PIBRĖŽIMAS IR OBJEKTAS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okslas, tiriantis psichikos faktus, nustatantis dėsnius ir kuriantis jų aiškinimo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os mokslo objekt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 ir jos reiškinia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a tyrinėja: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žinimo proc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dividualius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į 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OR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ndr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o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Zoo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opsichologija ir 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RAKT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inikin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nė psichologija (dar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dagog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orto, reklamos, teisės ir 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SICHOLOGIJOS MOKSLO IŠTAK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ligija, mitologija, filoso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enovės Rytų tautų psichologinės pažiū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ntikinė psicholo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duramžių psicholog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istorija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1778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6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79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340000" y="1905120"/>
            <a:ext cx="634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rnst Web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ustav Fechn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sichofizikini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yrin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r Francis Galton 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ino vertinti intelektą, pradėjo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vynių tyrim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helm Wund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įkūrė pirmąją psichologijos laboratoriją Leipcige, Vokietijoje, kur pradėjo taikyti mokslinius metodus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73844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8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9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24000" y="404640"/>
            <a:ext cx="70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man Ebbingha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cijų dėsniai, atminties tyrinėjim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liam Jame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irmasis psichologijos vadovėlis ,,Psichologijos principai” (2 toma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UNKCIONALIZ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Sapnų aiškin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SICHODINAMINĖ PSICH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1593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6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404640"/>
            <a:ext cx="6275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lfred Bine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heodore Sim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sukuria I-ąjį intelekto te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usų fiziolog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van Pavlo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klasikinio sąlygojimo eksperimentai su gyvū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x Wertheimer, Wolfgang Köler, Kurt Koffka –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vokimo tyri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ŠTALTINĖ PSICHOLOG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1:47:41Z</dcterms:created>
  <dc:creator>vplc</dc:creator>
  <dc:description/>
  <dc:language>en-US</dc:language>
  <cp:lastModifiedBy> </cp:lastModifiedBy>
  <dcterms:modified xsi:type="dcterms:W3CDTF">2007-09-03T19:46:20Z</dcterms:modified>
  <cp:revision>20</cp:revision>
  <dc:subject/>
  <dc:title>PSICHOLOGIJOS ĮVADAS</dc:title>
</cp:coreProperties>
</file>